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E0E-57B1-46F0-BEE1-1E14281C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AEF-438E-44C2-B330-F44BF14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BC42E-DBC2-41ED-889E-69D6EC39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3B39-29D0-4DF4-8BCE-6C53E2F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78F2-36B8-4654-B6F5-F5C6E0F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5F42C-F5BD-47B8-BE06-BFFEDC71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86804-BEC9-4688-9E66-7138297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5D74-5433-4F2B-B098-3226644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4ECD0-F3AB-4FD9-BC8F-AE333A4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7644C-5D17-46E2-A3BA-16B26AEE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D6B8C-C4F3-4CAF-8668-E293212F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81EBA-1005-49F0-BFD8-5EE8A412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139-65AD-40D3-BC48-3AEEE97B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79F0F-5C26-4C76-8358-4BD8DE15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2D7C2-7CAF-43B7-87A7-3CA933A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2F01-8B42-4AF2-A61B-D2D8183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EC1F-D1AD-4FCD-AB7F-F0410157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25536-AEED-4F9A-8FE4-4A04F9DB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F911-E77E-4FE3-94FA-F20923F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7BD11-1BFB-4084-9D68-4F69E3A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9ECB7-07AF-4B68-841F-3D3B5008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ABE31-3F53-4806-9CF0-CF43189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F63C-D77E-42FB-A658-2F207741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1FC-431D-42B8-ABA0-B7372209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9755-E6E5-4E70-8D06-8415A21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C359-5160-4A29-8ACF-7AB3BF1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9DF2B-B4E9-4D88-B7B8-AE5E4EA5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8810-AB3E-48CB-A239-72EE87B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A19D0-E364-4E2E-8850-CE1DC97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826AB-0C46-4456-97A6-1FE5AA1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F8F77-72E6-4EFB-BC95-58650C46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0783C-835D-40DC-8BFD-D62B470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FD60F-6836-444A-A16A-A0DCE69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49E0-40A7-4739-8DAF-207B539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7E7C-3FCA-42AE-BB21-F1C03ADC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C57DD-CE3B-4B9D-9330-5ED3427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5E78-0E62-4EB8-9A43-0A72B725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D4030-C5B1-4870-BF12-F3C80EDC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7857-747A-4038-B88F-2C7DC08A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E7A3D-23D2-40A2-BE50-13C3D9A3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100CC-2FEE-47FB-9762-54A9E99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D3B2-E56D-492D-96F0-7E4B9F5E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39B50-58B9-4D2D-B72C-E00DC36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6FE96-FF9B-4D32-BA8C-43C4F41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C71EA-39EF-40C7-B3ED-39BE7C6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019-77FE-49E4-A6E4-4237C111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1D624-E629-47EE-848C-D925BF9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1C9AE-DD2A-4568-9B95-8AA6203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8B21E-C740-4D14-BCE9-AE2C556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8441C-9378-45BA-8D6D-9D709058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499D-8F49-40E7-82E0-5A585A58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6296-9845-4886-9E2F-DA45297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6F42-4381-4EB1-AD73-6536B43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36F1-3718-48D5-BEB3-971CB461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98A6-A598-4B09-B9CD-447F4BF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0FC-88A2-446B-A247-C9E6BBE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38B-6D92-41CE-8CAC-BB53E0A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B091-40A5-4159-9269-107E8EF3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7F06-39F0-43F8-BBF0-744E0DC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569-7E1D-4A80-98FC-EB51318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44A-8F2F-4276-89D9-ED077BFA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5DB2-7F6A-42B6-A623-482EA9EE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9899-8DA5-42AD-B1ED-D967D5E9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ACBC-1EF1-449C-8DE8-8D58E63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12F0-F06B-42B8-B83A-648A37B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1115-5A9C-4177-8D64-441AE6F6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F396-DF96-42B8-BAA1-2C9CA40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60E-AD24-4108-AFA1-2D4C1881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3D24-2740-4808-9AC0-8D6139FA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8933-9616-4E04-BE1D-6389456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7375-51C3-45B4-A42A-84335AC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47C2-ED01-43CA-AC8D-E378EC6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F7C3-CBA4-4D3E-BA0B-9C8E3B76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422B-9383-4EA4-ACF6-DB127CA5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A416-05B1-4051-A428-3F3D4745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66A7-4D47-481B-BF9B-900FEC59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3E3F-00B6-4716-AA0B-EBC696F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BB09-7E2F-4C91-9E9F-DF4E92D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913-C135-4DE4-A02E-1A4E867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A169-ABD4-485F-81AB-95D051E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02D9-3C68-486F-A8E5-6DA5883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5C72-EE2E-4BE6-B509-B901A72E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9451-C9CB-42C5-864F-0605D092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43C9-9BFD-4F8B-AD28-6324E4F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8276-0DB2-4ECD-B3F4-B86FC76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C738-547C-471F-AE27-5C18C1BA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7894-E48A-4790-A9B8-F38D8B47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2A0D-C4A3-41D4-89ED-C158C242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C49A-0AF3-4609-9EE4-0ECB1C54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B0A-C1A9-4805-AD19-AD686BAD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0444-C9CB-4B07-A4CF-E873F266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B9C8-3FF9-4DB4-BD3E-0027E6B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19E7-86AF-4D35-8DD1-18FD8A10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1E12-25DD-48C9-ACA7-8634491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4F93-E295-489C-A92A-2A4C74A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79ED-4ACC-40A5-BE07-938C23F1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EDA5-B604-4746-81A0-62A8493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8659-0CD8-4F57-B8C7-5B0709E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C2B7-275A-49CC-8E75-E087FBE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0267-B7E9-4219-82B9-6D0F1EF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1FE-BED6-4654-A091-B96B72C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447E-0892-43BE-8841-24B82697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F0A0-E8D0-49E9-A603-7066D3FD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8AC9-9336-40A0-A52A-CD05F425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442A-043B-431C-B36F-D317281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A12F-86B0-4F0C-AFEA-B4CF6691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E889-7E19-46A7-95BE-983D879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4730A-EAF7-49D7-986E-DAD009C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AB61-68D6-4F0D-9149-2F5BB6C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F0112-C62B-4115-B342-C95B4B7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5ABD-E56D-4320-B030-87E3B32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009-70A6-439F-BFC8-34EB2E0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7187-D6FB-497A-A8D1-860AA06A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9955-2B41-4902-A962-EF110BAE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90E7-32CB-4C4B-8A25-15453EE3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62F7D-1300-4B19-9E20-D406B42A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5481-A51E-4BE1-BA5F-D58C7F5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9FDF-B5BE-4EF2-9A48-D8583D8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B6A2-D1F9-4B7E-B8E7-DA4964E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841C4-E6A8-4B52-B319-1BB3C625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DCF1-A9FD-49AA-8C9A-12E40ED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8572-E746-40BD-BFF3-DF676A3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F52-E44E-436E-8DE9-F76F078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7AB8-D96E-4697-B298-0DD9A71F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2665E-1135-471F-81FA-9E2156F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CC392-F419-4F14-A964-46EA7E5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8110-E3C3-4608-B67A-77FA908D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3E107-38BA-40EE-8571-2CB4EEF5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72050-E6C7-4761-813C-2F2DDC40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0BDAA-33A2-4EBB-A94B-5FF21DF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C309D-DB4F-43C9-B982-9B4EB1E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33D87-7CB2-4DBF-91C4-84686C9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BE91-2F0B-44D6-A33B-A089F00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1DB-1BA6-4F7A-80FE-4997163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3AA49-4EEB-41C3-82E4-0E7524F5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BE08-FF35-4A1C-B6AC-5BF9B4F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4EF3-81DC-4397-B937-CE146E6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836D9-A859-4A87-88D1-DE27576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3B9D-692E-49C5-A27B-854A0AF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A4A4-25B2-4438-9F2E-6F308506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711B-7BCD-4CA0-97D1-B50DE01A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E7349-E27A-4317-AC45-C15B724F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DBBE2-2F6B-4003-B97D-4EC8685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51BBD-A879-43A5-B9C3-AA349970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B7E-F961-4767-8202-1DADB11F25D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196-3DA5-4451-B4B7-2D961730320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ABBF-8A0B-463D-BFEF-B1BE0C1C8DD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5A29-2EF4-453C-ADF9-7D09769DDEA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D19-EA13-4C35-BFC7-08BCE4E18B0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4D3A-1C89-4919-BB3B-E4D94DA6752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A4E5-6BF6-4B8A-A878-F6E5B6A3BC1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563-3FF8-4059-9913-5F54C15EACC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F4E-B0EC-4023-9413-ACF9E9B6130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3355-7AD5-4D90-A241-9EBDED4186F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3D14-B9B5-4924-A1B5-9DA8F4F8857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874-5DA3-4309-ACB9-F88475ED230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53103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3060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SOL REVIEW MATERIALS FOR UNIT FOU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63600" y="5945040"/>
            <a:ext cx="84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  <a:ea typeface="Andalus"/>
              </a:rPr>
              <a:t>Conflict and Cooperation – The Spanish-American War and the United States Foreign Policy in Latin America, 1898 - 1930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THE ROOSEVELT COROLLARY TO THE MONROE DOCTR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6" name="Content Placeholder 3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624200" cy="3733560"/>
          </a:xfrm>
          <a:prstGeom prst="rect">
            <a:avLst/>
          </a:prstGeom>
          <a:ln w="0">
            <a:noFill/>
          </a:ln>
        </p:spPr>
      </p:pic>
      <p:sp>
        <p:nvSpPr>
          <p:cNvPr id="607" name="Rounded Rectangle 4"/>
          <p:cNvSpPr/>
          <p:nvPr/>
        </p:nvSpPr>
        <p:spPr>
          <a:xfrm>
            <a:off x="609480" y="1828800"/>
            <a:ext cx="327672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nited States claimed the right to intervene in any part of the Caribbean, Central America, or South America if their was a disturbance.  In essence we were establishing our own Sphere of Influence in the Western Hemisphe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oudy Stout"/>
              </a:rPr>
              <a:t>THE CONSTRUCTION OF THE PANAMA CANAL IS AN EXAMPLE OF BIG STICK DIPLOMACY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9" name="Content Placeholder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118120" cy="3810240"/>
          </a:xfrm>
          <a:prstGeom prst="rect">
            <a:avLst/>
          </a:prstGeom>
          <a:ln w="0">
            <a:noFill/>
          </a:ln>
        </p:spPr>
      </p:pic>
      <p:sp>
        <p:nvSpPr>
          <p:cNvPr id="610" name="Rounded Rectangle 4"/>
          <p:cNvSpPr/>
          <p:nvPr/>
        </p:nvSpPr>
        <p:spPr>
          <a:xfrm>
            <a:off x="6019920" y="1523880"/>
            <a:ext cx="2743200" cy="38862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886200"/>
              <a:gd name="textAreaBottom" fmla="*/ 3752280 h 3886200"/>
            </a:gdLst>
            <a:ahLst/>
            <a:rect l="textAreaLeft" t="textAreaTop" r="textAreaRight" b="textAreaBottom"/>
            <a:pathLst>
              <a:path w="21600" h="30599">
                <a:moveTo>
                  <a:pt x="3600" y="0"/>
                </a:moveTo>
                <a:arcTo wR="3600" hR="3600" stAng="16200000" swAng="-5400000"/>
                <a:lnTo>
                  <a:pt x="0" y="26999"/>
                </a:lnTo>
                <a:arcTo wR="3600" hR="3600" stAng="10800000" swAng="-5400000"/>
                <a:lnTo>
                  <a:pt x="18000" y="30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iginally, Columbia (capital city: Bogota) refused to give the US permission to build the Panama Canal.  Roosevelt resorted to force, though.  He encouraged Panama to claim independence, sent in the USS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Nashville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, and signed a treaty to build the cana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Stout"/>
              </a:rPr>
              <a:t>THANKS TO THEODORE ROOSEVELT, THE  PANAMA CANAL WAS COMPLETED IN 1914, JOINING THE ATLANTIC AND THE PACIFIC OCEAN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2" name="Content Placeholder 3" descr=""/>
          <p:cNvPicPr/>
          <p:nvPr/>
        </p:nvPicPr>
        <p:blipFill>
          <a:blip r:embed="rId1"/>
          <a:stretch/>
        </p:blipFill>
        <p:spPr>
          <a:xfrm>
            <a:off x="3733920" y="1857240"/>
            <a:ext cx="4908600" cy="3353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2666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Placeholder 4" descr=""/>
          <p:cNvPicPr/>
          <p:nvPr/>
        </p:nvPicPr>
        <p:blipFill>
          <a:blip r:embed="rId1"/>
          <a:srcRect l="0" t="10640" r="0" b="10640"/>
          <a:stretch/>
        </p:blipFill>
        <p:spPr>
          <a:xfrm>
            <a:off x="4572000" y="609480"/>
            <a:ext cx="388620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tection of American business interests in Cuba.  The United States had and interest in many Cuban businesses: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i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ugar Cane Refinerie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bacco Planta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Hotels and Casino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gricultural Product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Placeholder 4" descr=""/>
          <p:cNvPicPr/>
          <p:nvPr/>
        </p:nvPicPr>
        <p:blipFill>
          <a:blip r:embed="rId1"/>
          <a:stretch/>
        </p:blipFill>
        <p:spPr>
          <a:xfrm>
            <a:off x="4797360" y="1066680"/>
            <a:ext cx="343548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764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American support of Cuban rebels to gain independence from Spain: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For almost a decade, Americans had been raising money for Cubans seeking independence.  Jose Marti was the leader of the Cuban independence movement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Americans gave money to the cause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Placeholder 4" descr=""/>
          <p:cNvPicPr/>
          <p:nvPr/>
        </p:nvPicPr>
        <p:blipFill>
          <a:blip r:embed="rId1"/>
          <a:srcRect l="16126" t="0" r="16126" b="0"/>
          <a:stretch/>
        </p:blipFill>
        <p:spPr>
          <a:xfrm>
            <a:off x="4572000" y="1066680"/>
            <a:ext cx="3886200" cy="419112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3754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ising tensions between Spain and the United States as a result of the sinking of the USS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in Havana Harbo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 USS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 exploded in Havana Harbor on February 15, 1898.  The circumstances were mysterious, but it is likely that the ship’s destruction was an accident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emember the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!” was the battle cry of the United States during the war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4d4d4"/>
                </a:solidFill>
                <a:latin typeface="Goudy Stout"/>
              </a:rPr>
              <a:t>Reasons for the Spanish American War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38148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re were exaggerated news reports of the events in Cuba – a practice known as “yellow journalism.”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Newspaper editors William Randolph Hearst and Joseph Pulitzer both engaged in this practice, blaming the Spanish for atrocities – like the explosion of the </a:t>
            </a:r>
            <a:r>
              <a:rPr b="0" i="1" lang="en-US" sz="1600" spc="-1" strike="noStrike">
                <a:solidFill>
                  <a:srgbClr val="ffffff"/>
                </a:solidFill>
                <a:latin typeface="Gill Sans MT"/>
              </a:rPr>
              <a:t>Maine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hey wanted the US to declare war on Spain, some said, only to sell newspaper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2" name="Picture Placeholder 10" descr=""/>
          <p:cNvPicPr/>
          <p:nvPr/>
        </p:nvPicPr>
        <p:blipFill>
          <a:blip r:embed="rId1"/>
          <a:srcRect l="0" t="1703" r="0" b="1703"/>
          <a:stretch/>
        </p:blipFill>
        <p:spPr>
          <a:xfrm>
            <a:off x="4572000" y="914400"/>
            <a:ext cx="3886200" cy="4800600"/>
          </a:xfrm>
          <a:prstGeom prst="rect">
            <a:avLst/>
          </a:prstGeom>
          <a:ln w="792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4" name="Content Placeholder 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715000" cy="3760920"/>
          </a:xfrm>
          <a:prstGeom prst="rect">
            <a:avLst/>
          </a:prstGeom>
          <a:ln w="0">
            <a:noFill/>
          </a:ln>
        </p:spPr>
      </p:pic>
      <p:sp>
        <p:nvSpPr>
          <p:cNvPr id="595" name="Rounded Rectangle 6"/>
          <p:cNvSpPr/>
          <p:nvPr/>
        </p:nvSpPr>
        <p:spPr>
          <a:xfrm>
            <a:off x="6477120" y="114300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nited States emerged as a world power,  earning the respect of major military powers in Europe after decisively defeating the Spanish in the war.   Other imperialist nations took note:  the United States was a formidable oppon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7" name="Content Placeholder 1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789880" cy="3733560"/>
          </a:xfrm>
          <a:prstGeom prst="rect">
            <a:avLst/>
          </a:prstGeom>
          <a:ln w="0">
            <a:noFill/>
          </a:ln>
        </p:spPr>
      </p:pic>
      <p:sp>
        <p:nvSpPr>
          <p:cNvPr id="598" name="Rounded Rectangle 13"/>
          <p:cNvSpPr/>
          <p:nvPr/>
        </p:nvSpPr>
        <p:spPr>
          <a:xfrm>
            <a:off x="6629400" y="129528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t the end of the war, Spanish misrule over Cuba was over.  Cuba gained its independence.  The United States still considered Cuba a protectorate, however – meaning that while Cuba was independent,  our nation could intervene in their affairs if turmoil or disorder occurred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RESULTS OF THE SPANISH AMERICAN W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294920"/>
            <a:ext cx="41148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At the end of the Spanish-American War, the United States also claimed three colonies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Gua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uerto Ric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he Philippines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In the Philippines, a brutal civil war was conducted, and hundreds of thousands died before the United States took over the islands.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1" name="Content Placeholder 4" descr=""/>
          <p:cNvPicPr/>
          <p:nvPr/>
        </p:nvPicPr>
        <p:blipFill>
          <a:blip r:embed="rId1"/>
          <a:stretch/>
        </p:blipFill>
        <p:spPr>
          <a:xfrm>
            <a:off x="4992840" y="1536840"/>
            <a:ext cx="3273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Stout"/>
              </a:rPr>
              <a:t>THE ROOSEVELT COROLLARY TO THE MONROE DOCTR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1920" y="1536840"/>
            <a:ext cx="29718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he Roosevelt Corollary asserted the United States’ right to interfere in the economic matters and disputes of nations in Latin America or the Caribbean – the entire Western Hemisphere.  Indeed, we claimed that we had the right to settle any disputes – financial or political, between nations in the Western Hemisphere.  We were the new police power in the region.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4" name="Content Placeholder 3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399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8:50:17Z</dcterms:created>
  <dc:creator>LATHOMPS</dc:creator>
  <dc:description/>
  <dc:language>en-US</dc:language>
  <cp:lastModifiedBy>Adam</cp:lastModifiedBy>
  <dcterms:modified xsi:type="dcterms:W3CDTF">2013-04-22T01:30:19Z</dcterms:modified>
  <cp:revision>12</cp:revision>
  <dc:subject/>
  <dc:title>Unit 4</dc:title>
</cp:coreProperties>
</file>